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CAMERA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5D2-C13F-47EA-8C27-101551F9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E5AE-8D71-4B21-B50D-8914388A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A53-894F-439E-9F56-507A7BF0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7F6B-42E6-4DD7-BE3B-FB08D547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818F-C4F1-4A08-B520-7FE1B316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4991-B4F4-4E05-9677-D7DA29C5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C69D-D70E-4658-966A-62D089FB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80E3-13E7-498D-931F-D189CC19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EC22-E433-42AA-A774-31109429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91E7-C785-4203-8FFA-ECD706A8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6F52-A66C-4534-851E-93B48D54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4F26-B510-4994-8EFB-9159664D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474B-FE67-4DF2-A3CE-95D6C1C0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E2D8-5404-4EA6-982A-960E7E30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1F25-AB69-478B-B812-01467E89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7E25-E5AA-470E-97CE-CD494EC3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8EE1-78AB-491C-946F-6A64554E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7AA1-9B11-4672-8798-90154AAD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480-2EC0-4004-8B56-184E5E69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E423-F1A9-4B49-B209-363B1CA0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807-6BB4-4505-91F1-A3D90ECA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194D-18D8-4DF3-A413-F684CE78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500-094F-4FAA-8D6E-2AF7E2BA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F29-96C2-44BB-B072-00909CDE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CT00236"/>
          <p:cNvPicPr/>
          <p:nvPr/>
        </p:nvPicPr>
        <p:blipFill>
          <a:blip r:embed="rId2"/>
          <a:srcRect l="0" t="0" r="0" b="467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GCT00236"/>
          <p:cNvPicPr/>
          <p:nvPr/>
        </p:nvPicPr>
        <p:blipFill>
          <a:blip r:embed="rId3"/>
          <a:srcRect l="60834" t="60843" r="20834" b="18520"/>
          <a:stretch/>
        </p:blipFill>
        <p:spPr>
          <a:xfrm>
            <a:off x="7467480" y="5410080"/>
            <a:ext cx="1676520" cy="144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9222-D278-4247-B020-E74441417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CT00236"/>
          <p:cNvPicPr/>
          <p:nvPr/>
        </p:nvPicPr>
        <p:blipFill>
          <a:blip r:embed="rId2"/>
          <a:srcRect l="0" t="0" r="0" b="22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954F-B8C3-4978-B836-A6200447D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Script MT Bold"/>
              </a:rPr>
              <a:t>                                                  </a:t>
            </a:r>
            <a:r>
              <a:rPr b="1" lang="en-US" sz="6600" spc="-1" strike="noStrike">
                <a:solidFill>
                  <a:srgbClr val="ff3300"/>
                </a:solidFill>
                <a:latin typeface="Script MT Bold"/>
              </a:rPr>
              <a:t>Work, Power, Energ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f our examples have increased the potential energy or the kinetic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 = (Force in the direction of motion) x distance traveled in the direction of the for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force is opposite the direction of motion, negative work is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decreases the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orking at an adva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we’re limited by the amoun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can app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Machines such as ramps, levers, pulleys, etc  allow us to do the same amount of work, but by applying a smaller force over a larger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= </a:t>
            </a: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For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x  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Di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orce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x   </a:t>
            </a: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Dist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Ra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mps allow the exertion of a smaller force over a longer distance to achieve the same change in gravitational potential energy (the same amount of wor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13"/>
          <p:cNvGrpSpPr/>
          <p:nvPr/>
        </p:nvGrpSpPr>
        <p:grpSpPr>
          <a:xfrm>
            <a:off x="1523880" y="4191120"/>
            <a:ext cx="914400" cy="1512720"/>
            <a:chOff x="1523880" y="4191120"/>
            <a:chExt cx="914400" cy="1512720"/>
          </a:xfrm>
        </p:grpSpPr>
        <p:sp>
          <p:nvSpPr>
            <p:cNvPr id="111" name="Rectangle 4"/>
            <p:cNvSpPr/>
            <p:nvPr/>
          </p:nvSpPr>
          <p:spPr>
            <a:xfrm>
              <a:off x="1587600" y="5246640"/>
              <a:ext cx="8380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utoShape 5"/>
            <p:cNvSpPr/>
            <p:nvPr/>
          </p:nvSpPr>
          <p:spPr>
            <a:xfrm>
              <a:off x="1523880" y="4191120"/>
              <a:ext cx="914400" cy="9144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Line 6"/>
          <p:cNvSpPr/>
          <p:nvPr/>
        </p:nvSpPr>
        <p:spPr>
          <a:xfrm>
            <a:off x="762120" y="5486400"/>
            <a:ext cx="6705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914400" y="3962520"/>
            <a:ext cx="6705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738440" y="5680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14"/>
          <p:cNvGrpSpPr/>
          <p:nvPr/>
        </p:nvGrpSpPr>
        <p:grpSpPr>
          <a:xfrm>
            <a:off x="3641760" y="3733920"/>
            <a:ext cx="4892760" cy="2209680"/>
            <a:chOff x="3641760" y="3733920"/>
            <a:chExt cx="4892760" cy="2209680"/>
          </a:xfrm>
        </p:grpSpPr>
        <p:sp>
          <p:nvSpPr>
            <p:cNvPr id="117" name="Line 9"/>
            <p:cNvSpPr/>
            <p:nvPr/>
          </p:nvSpPr>
          <p:spPr>
            <a:xfrm flipV="1">
              <a:off x="3809880" y="3733920"/>
              <a:ext cx="4724640" cy="2209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 rot="20112600">
              <a:off x="3698640" y="5281560"/>
              <a:ext cx="8380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AutoShape 11"/>
            <p:cNvSpPr/>
            <p:nvPr/>
          </p:nvSpPr>
          <p:spPr>
            <a:xfrm rot="3979800">
              <a:off x="5485680" y="3809880"/>
              <a:ext cx="228600" cy="2057400"/>
            </a:xfrm>
            <a:prstGeom prst="upArrow">
              <a:avLst>
                <a:gd name="adj1" fmla="val 50000"/>
                <a:gd name="adj2" fmla="val 2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rizontal Force and the Resulting Horizontal Accel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he horizontal component of the force does work in the horizo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work is done moving the wagon 3 met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horizontal force"/>
          <p:cNvPicPr/>
          <p:nvPr/>
        </p:nvPicPr>
        <p:blipFill>
          <a:blip r:embed="rId1"/>
          <a:srcRect l="53620" t="35804" r="5107" b="3413"/>
          <a:stretch/>
        </p:blipFill>
        <p:spPr>
          <a:xfrm>
            <a:off x="609480" y="1947960"/>
            <a:ext cx="38862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Work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ft a book of mass 2 kg. from the floor to the desk, or 1.2 meters. W =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ft the same book from the desk to 2.2 m above the desk. W =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ork is done to get the same book from the floor to total height of 3.3m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Script MT Bold"/>
              </a:rPr>
              <a:t>Work, Power, Energ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219320" y="3123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 Unicode MS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doing wor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 = Work per unit tim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 Joule per second = 1 Watt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000 Watts = 1</a:t>
            </a:r>
            <a:r>
              <a:rPr b="1" i="1" lang="en-US" sz="3200" spc="-1" strike="noStrike">
                <a:solidFill>
                  <a:srgbClr val="b2b2b2"/>
                </a:solidFill>
                <a:latin typeface="Times New Roman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kilowatt</a:t>
            </a:r>
            <a:r>
              <a:rPr b="1" i="1" lang="en-US" sz="3200" spc="-1" strike="noStrike">
                <a:solidFill>
                  <a:srgbClr val="b2b2b2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horsepower (hp) = 746 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ower is a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sca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qua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809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of using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do 100 joules of work in one second (using 100 joules of energy), the power is 100 wat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 keeps something mov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1295280" y="4952880"/>
                <a:ext cx="388620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Script MT Bold"/>
              </a:rPr>
              <a:t>Work, Power, Energ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19320" y="3123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Work-Energy Theo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Work – Energy Theo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k done on an object by a </a:t>
            </a:r>
            <a:r>
              <a:rPr b="1" i="1" lang="en-US" sz="3200" spc="-1" strike="noStrike">
                <a:solidFill>
                  <a:srgbClr val="800080"/>
                </a:solidFill>
                <a:latin typeface="Times New Roman"/>
                <a:ea typeface="Arial"/>
              </a:rPr>
              <a:t>n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force equals the object’s </a:t>
            </a:r>
            <a:r>
              <a:rPr b="1" i="1" lang="en-US" sz="3200" spc="-1" strike="noStrike">
                <a:solidFill>
                  <a:srgbClr val="800080"/>
                </a:solidFill>
                <a:latin typeface="Times New Roman"/>
                <a:ea typeface="Arial"/>
              </a:rPr>
              <a:t>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in kinetic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imes New Roman"/>
              </a:rPr>
              <a:t>net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of energy transferred to the object is equal to the work done.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= 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changing speed from 0 to v, work is d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inetic energy increases by an amount equal to the work d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(force x dista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netic Energy ( ½ mass x velocit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 Energy( mass x g x heigh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 = mv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 = m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= 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ytona 500 ( centimeters that is!!!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 Unicode MS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pacity to do work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ust have energy to accomplish work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like the "currency" for performing wor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o 100 joules of work, you must expend 100 joules of energ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Doing work exchanges energ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netic Energy = energy of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lling bowling ball can “do work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alling anvil can d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Energy = Latent capacity for doing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ational potenti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 potenti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potenti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es can convert energy from one form to another, but the total amount is always conserv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 the usable energy decreasing even though total energy is conserved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ll this “energy of motion”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netic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’s kinetic energy is given by this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½ m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066680" y="5791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 Energy (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5"/>
          <p:cNvSpPr/>
          <p:nvPr/>
        </p:nvSpPr>
        <p:spPr>
          <a:xfrm flipH="1" flipV="1">
            <a:off x="1600200" y="4648320"/>
            <a:ext cx="4572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590920" y="51055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of the moving object (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"/>
          <p:cNvSpPr/>
          <p:nvPr/>
        </p:nvSpPr>
        <p:spPr>
          <a:xfrm flipH="1" flipV="1">
            <a:off x="2819160" y="45720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267080" y="4191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of the moving object 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9"/>
          <p:cNvSpPr/>
          <p:nvPr/>
        </p:nvSpPr>
        <p:spPr>
          <a:xfrm flipH="1">
            <a:off x="3276720" y="4419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 the Boo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put work into the book to lift it, where did that work energy g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get it back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ential Energy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tor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tential Energ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The amount of energy something has “available” that can be converted to other forms of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different “sources” of potential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Gravit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ert force through a d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force due to gravity between the two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a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how far an object is allowed to f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Energy can be converted into other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something falls, gravitational potential energy is converted into kinetic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liding frictional force converts kinetic energy into “thermal energ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rub your hands toge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id that energy origin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“do work” on something, you change its energy by an amount equal to the work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Script MT Bold"/>
              </a:rPr>
              <a:t>Work, Power, Energ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3000" y="2895480"/>
            <a:ext cx="64008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Kinetic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otenti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echan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inetic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nergy possessed by an object because it is in mo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s a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sca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nits of kinetic energy: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Jo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n object with mass of 1 kg, moving at 1 m/s, has a kinetic energy of 0.5 Jo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1219320" y="4495680"/>
                <a:ext cx="4724280" cy="151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inetic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n object’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kinetic ener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epends 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object’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mass</a:t>
            </a:r>
            <a:r>
              <a:rPr b="0" i="1" lang="en-US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inetic energy is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to mas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object’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spe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inetic energy is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to the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Arial"/>
              </a:rPr>
              <a:t>squ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of the object’s spe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ive energy is proportional to KE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PE - Mechan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potential energy"/>
          <p:cNvPicPr/>
          <p:nvPr/>
        </p:nvPicPr>
        <p:blipFill>
          <a:blip r:embed="rId1"/>
          <a:srcRect l="27630" t="0" r="0" b="61187"/>
          <a:stretch/>
        </p:blipFill>
        <p:spPr>
          <a:xfrm>
            <a:off x="685800" y="114300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’s Fastest Roller Co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id the car get up hig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hanges take place during f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hanges take place during ri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se changes rela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rial"/>
              </a:rPr>
              <a:t>Potential Energ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Work is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always converted directly into kinetic energy.  Instead it is “stored”, or “hidden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Potential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is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stored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or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stored wor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Potential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is energy that an object (system) has due to its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or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arrang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PE = - Work</a:t>
            </a:r>
            <a:r>
              <a:rPr b="1" lang="en-US" sz="4000" spc="-1" strike="noStrike" baseline="-25000">
                <a:solidFill>
                  <a:srgbClr val="80008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01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Gravitational Potenti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energy possessed by an object because of a gravitational inter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avitational potential energy of an object at height </a:t>
            </a:r>
            <a:r>
              <a:rPr b="0" i="1" lang="en-US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equals the negative of the work that gravity does when the object is lifted from the PE = 0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  <a:ea typeface="Arial"/>
              </a:rPr>
              <a:t>PE</a:t>
            </a:r>
            <a:r>
              <a:rPr b="0" lang="en-US" sz="6600" spc="-1" strike="noStrike" baseline="-25000">
                <a:solidFill>
                  <a:srgbClr val="0000ff"/>
                </a:solidFill>
                <a:latin typeface="Times New Roman"/>
                <a:ea typeface="Arial"/>
              </a:rPr>
              <a:t>g</a:t>
            </a:r>
            <a:r>
              <a:rPr b="0" lang="en-US" sz="6600" spc="-1" strike="noStrike">
                <a:solidFill>
                  <a:srgbClr val="0000ff"/>
                </a:solidFill>
                <a:latin typeface="Times New Roman"/>
                <a:ea typeface="Arial"/>
              </a:rPr>
              <a:t> = mgh 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Arial"/>
              </a:rPr>
              <a:t>(= W x h or       F x h or F x dist.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Elastic Potenti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pring or other elastic media can store potential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efine PE as the work required by a external force to move the object without acceleration between the two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spring is stretched (or compressed) the force changes, so we must aver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447920" y="4497480"/>
                <a:ext cx="4667040" cy="18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asti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k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Script MT Bold"/>
              </a:rPr>
              <a:t>Work, Power, Energ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Conservation of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Mechan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Mechanical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= PE +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nergy by itself is impossible to determine (you can’t  measure energy of any object at any single state) but you can measure </a:t>
            </a:r>
            <a:r>
              <a:rPr b="0" i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in 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onservation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w of Conservation of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s that within a closed, isolated system, energy can change form, but the total amount of energy is constant.  Energy can neither be created nor destroy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f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no external for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act on a system, the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energy of the system will remain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const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380880" y="5029200"/>
                <a:ext cx="72090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tal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rial"/>
              </a:rPr>
              <a:t>Conservation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 throw a ball up in the air, the moment it leaves your hand the ball has little potential energy but a lot of kinetic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s the ball moves upward, the kinetic energy is transferred to potential energy and the ball slows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top of  the path, the ball has stopped traveling  upward and has transferred all the kinetic energy into potential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of the force due to gravity, the ball starts to move down, the potential energy converting to kinetic energy, increasing the velocity of the ball, until it is caugh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-PE on an Inclined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incline energy"/>
          <p:cNvPicPr/>
          <p:nvPr/>
        </p:nvPicPr>
        <p:blipFill>
          <a:blip r:embed="rId1"/>
          <a:srcRect l="0" t="22058" r="1827" b="0"/>
          <a:stretch/>
        </p:blipFill>
        <p:spPr>
          <a:xfrm>
            <a:off x="380880" y="1676520"/>
            <a:ext cx="716292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-PE in a Pendul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3" descr="energy pendulum"/>
          <p:cNvPicPr/>
          <p:nvPr/>
        </p:nvPicPr>
        <p:blipFill>
          <a:blip r:embed="rId1"/>
          <a:srcRect l="0" t="15363" r="0" b="26430"/>
          <a:stretch/>
        </p:blipFill>
        <p:spPr>
          <a:xfrm>
            <a:off x="990720" y="1143000"/>
            <a:ext cx="613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Exerting force in a way that makes a chang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ing a rock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you’re exerting a force, and the rock’s location changes (i.e. “the world has been changed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ing on a brick wall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you’re exerting a force, but “the world doesn’t change” (the wall’s position doesn’t chang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exerting force alone isn’t enough.  You have to bo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ert a 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chan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’re not exerting a force, you’re not doing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ing a 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you are “throwing the ball” (as opposed to just holding it) you are exerting a force on the ball.  And the ball is moving.  So you’re do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ball leaves your hand, you are no longer exerting force.  The ball is still moving, but you’re no longer do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 Done By “Lifting” Some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0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 were pushing something along the ground, the work do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n’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 on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ting up something does do work that depends on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gra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always pulls down with a force equal to mg, where m is the mass, and g = 9.8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must exer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much force to lift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re mass something has, the more work required to lif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W = Fd cos</a:t>
            </a:r>
            <a:r>
              <a:rPr b="1" i="1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ne by  force is defined as the product of that force times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ralle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ance over which it ac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t of work is the newton-meter, called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ou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J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kilowatt hour  is the unit of work.  If a force is doing work at a rate of 1 kilowatt (which is 1000J/s), then in 1 hour it will do 1k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of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3.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ork is a sca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523880" y="4876920"/>
            <a:ext cx="7452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Force is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NOT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the force is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perpendic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to the direction the object moves, the work done is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the object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doesn’t m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the work done is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Conditions for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Force must act through a 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Distanc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in the direction of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work required for satellite or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02:42:53Z</dcterms:created>
  <dc:creator>Division of Technology</dc:creator>
  <dc:description/>
  <dc:language>en-US</dc:language>
  <cp:lastModifiedBy>gandella</cp:lastModifiedBy>
  <dcterms:modified xsi:type="dcterms:W3CDTF">2011-01-10T17:28:50Z</dcterms:modified>
  <cp:revision>78</cp:revision>
  <dc:subject/>
  <dc:title>Math:  The Language of Physics</dc:title>
</cp:coreProperties>
</file>